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2ADB-559F-400C-B78B-9613FE28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ot of axis and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ave a certain set of coordi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, 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how to plo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, 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X so it is 4 along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Y so it is 5 upwards the Y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where these two point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trying to find Y by using thi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X stands for the slope which will be explained later in this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 stands for the Y intercept which you will need to know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explan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each step with class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’s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B2A-2FAA-43B1-8E70-0F72C207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8F6-3592-4187-8910-7C7A6096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38B-E5A3-4A0E-870D-99272C86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626-2604-4565-8110-1B237DCA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8503-DDEC-4908-9464-87AEE806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F476-4D8D-41A5-8A4F-BFAA97B9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F1D9-B3B6-4ECB-A599-7C1A614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E782-EAEA-4822-B3A4-87897E74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807F-A146-453F-BC8B-ADC60D80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67F5-6B77-4DEC-810D-4E43C23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41D-D3D2-4DD3-87DE-1FB7EEC4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4F1-B8FF-49C4-9697-0D6A3367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67F4-BA6F-44C3-8318-5A9BBC50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CA25-C1F7-401A-A90A-931E362A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2BD7-88AB-4F99-B18B-B8049AB4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D3E7-19A2-42CB-888D-8615F667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3DC3-02A5-41AD-904D-8A08350B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245-F266-4597-A005-108F3065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F9E-62E3-4E92-8E02-C2FAFF1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F88-70E7-4B0B-8F6E-EB3EF0BD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6F7-52AA-411E-881E-E8B64FB9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8E9-0B7B-4F70-AA79-46EB3A3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45A-2B9F-4FD4-9B37-DA27AFE8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780-E7F9-462F-9C48-FF2451CE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6B21-7E95-48DA-9F63-AF3727E55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62B2-6BB5-4880-8D60-9E2032122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thsteacher.com.au/year7/ch15_linear/02_cartesian/plane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Graphing and interpreting points, lines and functions.</a:t>
            </a:r>
            <a:r>
              <a:rPr b="0" lang="en-US" sz="4800" spc="-1" strike="noStrike" u="sng">
                <a:solidFill>
                  <a:srgbClr val="ccecff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895480" y="5562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Ben Madeley, Tom Heinrich, James Pardon, Patryk Urb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3100680" cy="299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tesian Pla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less 2-Dimensional plane with a set of axis to plot and graph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otting Poi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oints on the Cartesian plane have a set of coordinates. E.g.: 5,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24080" y="2742840"/>
            <a:ext cx="152424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333760" y="2666880"/>
            <a:ext cx="6094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4343400"/>
            <a:ext cx="2590920" cy="228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first number sh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far to the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right on the Cartes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e the poin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809880"/>
            <a:ext cx="3200400" cy="2438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econd number shows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far up or down on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tesian plane the poin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374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7010280" y="380880"/>
            <a:ext cx="1905120" cy="6096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how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a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quation Of A 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= MX +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714640" y="2209680"/>
            <a:ext cx="3049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666880" y="2133360"/>
            <a:ext cx="198144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3429000"/>
            <a:ext cx="121932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inter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0832600">
            <a:off x="1980720" y="3809880"/>
            <a:ext cx="1219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286000" y="2133720"/>
            <a:ext cx="1371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133720"/>
            <a:ext cx="144792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we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ing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the eq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213336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562720" y="1371600"/>
            <a:ext cx="228600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4191120"/>
            <a:ext cx="2819520" cy="1828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slope goes left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in a downwa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on the M will b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ative num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3657600"/>
            <a:ext cx="2743200" cy="220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slope goes left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in an upwa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on the M will b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 num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371600" y="3048120"/>
            <a:ext cx="3049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858000" y="2590920"/>
            <a:ext cx="8380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derstanding part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oints and slope ar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-4 (2,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MX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-4X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= -4(2)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= -8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+8 =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 =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-4X + 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oints ar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3,2) (6,1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ope = y2 – y1/ x2 – x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1 – 2) / (6 –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= 9/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3X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= 3(3) +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= 9+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-9 =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7 = 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= 3X -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X and Y intercep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cepts are where the line on the Cartesian plane crosses o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42900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58672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4038480"/>
            <a:ext cx="243864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5791320"/>
            <a:ext cx="7632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4267080"/>
            <a:ext cx="7632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600200" y="3962520"/>
            <a:ext cx="4572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2971800"/>
            <a:ext cx="2971800" cy="114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inter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267080"/>
            <a:ext cx="2971800" cy="114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inter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276360" y="5181480"/>
            <a:ext cx="2361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2:17:49Z</dcterms:created>
  <dc:creator>Ben M</dc:creator>
  <dc:description/>
  <dc:language>en-US</dc:language>
  <cp:lastModifiedBy>Ben M</cp:lastModifiedBy>
  <dcterms:modified xsi:type="dcterms:W3CDTF">2008-02-18T02:00:07Z</dcterms:modified>
  <cp:revision>28</cp:revision>
  <dc:subject/>
  <dc:title>Graphing and interpreting points, lines and functions. </dc:title>
</cp:coreProperties>
</file>